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15C-2833-46A9-BF64-65F5A821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11E-8234-4982-B39F-597F879B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C8D-D566-4B62-A48B-8E7D0B98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48E-4698-4EBD-8D1A-18BDA0C1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EED-57A4-470F-B0DC-9329FFB1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729-5DC6-43E7-8CCC-C80270C4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FEB-E938-4A4A-8FB5-C17E7013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8EA-F2C1-4D8F-B83A-BE44E616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FF1-A39C-4C81-8A49-484243BE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59B-DA6F-42B2-B0F6-3634A79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A80-EB10-4B50-BC86-2D9BCCEC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41C-C895-4619-84B5-3A62A2B8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A710-55D0-4C38-87FF-563BF7D509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B47A-A12C-47A4-83FF-8A0CF2B09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atabase_model" TargetMode="External"/><Relationship Id="rId2" Type="http://schemas.openxmlformats.org/officeDocument/2006/relationships/hyperlink" Target="https://en.wikipedia.org/wiki/Data_(computing)" TargetMode="External"/><Relationship Id="rId3" Type="http://schemas.openxmlformats.org/officeDocument/2006/relationships/hyperlink" Target="https://en.wikipedia.org/wiki/Database_schema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6CDE-D45A-4386-969D-44783E223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" y="587520"/>
            <a:ext cx="876312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 is a DB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-management system (DBMS) is a collection of interrelated data and a set of programs to access tho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a DBMS is to store and retrieve databas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base Syste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ing: For customer and account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lines: For reservations and schedul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2D94-1EAE-4E33-9E96-4AEB5B169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304920" y="76320"/>
            <a:ext cx="8534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gical level describes the entire database in terms of a small number of relatively simple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the simple structures at the logical level may involve complex physical-level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of the logical level does not need to be aware of this complexity (complex physical-level stru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and Administrators work at thi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ew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ghest level of abstraction describes on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entire 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ew level of abstraction exists to simplify users interaction with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52280" y="27612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eak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set which does not have a key is called weak entit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s is an example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entit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eak entity can be identif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quely only by consider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me of its attributes in conjunction with the primary key of another entity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0E17-1B63-4510-89AA-2FC8B140F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52280" y="62856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restrictions must h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 entity se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entity se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participate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e-to-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ship set. This relationship set is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relationship se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weak entit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ak entity set must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tal particip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identifying relationship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0B3-A98F-41F8-9F41-3B6440897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228600" y="12060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Dependents entity can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fied uniqu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key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mployees entity  set  and the attribut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Dependents entit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attributes of a weak entity set that uniquely identify a weak entity for a given owner entity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weak entity set. In our exampl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na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is a partial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pendents weak entity set and its relationship to Employees is shown in Figure 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tal particip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ependents in Policy is indicated by linking them with a dar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C47-F520-46A5-9333-94AFE34BB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763120" cy="3124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228600" y="308916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row from Dependents to Policy indicates that each Dependents entity appears in at most one Policy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dentify Dependents is a weak entity and Policy is its identifying relationship, we draw both wi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rk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CC87-F6E4-4E5A-B646-DA63716CA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152280" y="34920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dicat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artial key for Dependents, we underline it using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oke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ass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it is natural to classify the entities in an entity set into sub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might want to talk about an 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set and a Contra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entity set to distinguish the basis on which they are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32DE-C057-4A56-B9B5-41C3D5E5C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ight have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l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for 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and an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for Contra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ttributes defined for an 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 entity set are the attributes for Employees plus 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ttributes for the entity set Employee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tity set 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, and that Hour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p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a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.12 illustrates the class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ty set Employees may also be classified using a different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69C-2C86-42A4-AF42-A7DC1BB9E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BA1-04EC-4241-810F-1FF3D4714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might identify a subset of employees as Seni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hierarchy can be viewed in one of two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Employees (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clas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bclass-specific attributes are then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Hourly_Emps and Contract_Emp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loyees. As another example, two entity sets Motorboats and Cars may be generalized into an entity set Motor_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specify two kinds of constraints with respect to ISA hierarchies, namely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verla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vering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FA1C-4C3E-4BF9-BB25-0F77C35C4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152280" y="76320"/>
            <a:ext cx="883944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 constrai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whether two subclasses are allowed to contain the sam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can John be both an Hourly_Emps entity and a Contract_Emps entity? …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e be both a Contract_Emps entity and a Senior_Emps entity? …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note this by writing 'Contract_Emps OVERLAPS Senior_Emp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ing constrai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whether the entities in the subclasses collectively include all entities in the super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B70B-DD3F-4F42-A8FD-DA33CB6DD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152280" y="-76320"/>
            <a:ext cx="8839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does every Employees entity have to belong to one of its subclasses? …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every Motor_Vehicles entity have to be either a Motorboats entity or a Cars entity? …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note this by writing 'Motorboats AND Cars COVER Motor_Vehicle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have to model a relationship between a collection of entitie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us to indicate that a relationship set (identified through a dashed box) participates in another relationship set.This is illustrated in Figure 2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A86-A1F9-4AE3-B6CC-BF363C9A0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7C18-8920-4BA2-B59C-6126334CE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304920" y="228600"/>
            <a:ext cx="853416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_id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_name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_street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_city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nking enterprise may have several such record types, inclu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count, with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_number and account_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mployee, with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_name and employee_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ED76-3B2A-4C20-8164-800CF6521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228600" y="463680"/>
            <a:ext cx="861048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ggregation when we need to express a relationship amo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CEPTUAL DESIGN FOR LARGE ENTERPRI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ing database for large enterprise takes efforts of more than one 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iagrammatically represents the complete database and enables the user who provide inputs to database, to understand the complete functionality of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4469-BD45-4865-85B1-D25ABCE22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152280" y="5284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atabases are modeled in two methodolo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 -The requirements of all the users ar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he conflicting requirements are resolved and a final conceptual view is generated that satisfies the requirements of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-The user provides his requirements, the designer generates a conceptual view from thes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ikewise all the conceptual views from all user requirements are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omprehensive conceptual view that satisfies all the requirements is gene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A2AD-A7A4-4357-B440-A36449032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B8A5-F94D-46A7-AFEC-B11D6F3DD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04920" y="30492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physical level, a customer, account, or employee record can be described as a block of consecutive storage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ogical level, each such record is described by a structure definition, as in the previous code segment, and the interrelationship of these record types is defin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view level, computer users see a set of application programs that hide details of the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view level, several views of the database are defined, and database users see thes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966F-DBE2-4770-8923-ED198F5C1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228600" y="297000"/>
            <a:ext cx="86104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ews also provide a security mechanism to prevent users from accessing certain parts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students can access only their details, they cannot able to access other students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stances and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 change over time as information is inserted and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lection of information stored in the database at a particular moment is called an </a:t>
            </a:r>
            <a:r>
              <a:rPr b="0" lang="en-I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stance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2043-FC0A-4066-8B7C-654530670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152280" y="14940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verall design of the database is called the database </a:t>
            </a:r>
            <a:r>
              <a:rPr b="0" lang="en-I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 of database schemas and instances can be understood by analogy to a program written in a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I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schema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s to the </a:t>
            </a:r>
            <a:r>
              <a:rPr b="0" lang="en-I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 declarations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I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lues of the variables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program at a point in time correspond to an </a:t>
            </a:r>
            <a:r>
              <a:rPr b="0" lang="en-I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tance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database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systems have several schemas, partitioned according to the levels of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5A3C-DDC7-41AE-9975-D6DFA1F79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228600" y="15228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I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ysical schema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bes the database design at the phys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</a:t>
            </a:r>
            <a:r>
              <a:rPr b="0" lang="en-I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gical schema (conceptual schema) 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the database design  at the log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may also hav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bschem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view level, that describe different views of the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develop applications by using the logical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chema is hidden beneath the logical schema, and can be changed easily without affecting appli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0235-9AB7-44DF-95AC-CCEA52DC6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28600" y="34596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s are said to exhibi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data independe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y do not depend on the physical schema, and thus need not be rewritten if the physical schema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scribes the design of a database at the log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odel is a collection of tools for describing data, data relationships, data semantics, and consistenc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54DB-010D-4BAC-B0DE-D92EB217D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04920" y="30492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s of Dat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ty-Relation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based data models (Object-oriented and Object-rel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structured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30C-77AA-4A38-A0FF-BF60F4656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152280" y="152280"/>
            <a:ext cx="883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tion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al model uses a collection of tables to represent both data and the relationships among tho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816120" y="5591160"/>
            <a:ext cx="73976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.2 Custome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1"/>
          <a:stretch/>
        </p:blipFill>
        <p:spPr>
          <a:xfrm>
            <a:off x="304920" y="2733840"/>
            <a:ext cx="8610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9EF9-5030-4516-BE8D-9252580C1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al model is an example of a record-bas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-based models are so named because the database is structured in fixed-format records of sever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able contains records of a particular type. Each record type defines a fixed number of fields, or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able correspond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recor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al data model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widely u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23EF-0C30-4C88-884E-ADA00DD84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304920" y="228600"/>
            <a:ext cx="853416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:For student information, course regi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dit card transa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: For customer, product, and purchas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ing: For production, inventory,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s: For employees information, salaries, tax d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base system vs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part of a savings-bank enterprise that keeps information about all customers and savings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AFE3-A178-409F-B491-B6A71C93A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304920" y="438120"/>
            <a:ext cx="86104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tity-Relationship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ty-relationship (E-R) data model is a colle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thes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“thing” or “object” in the real world that is distinguishable from oth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each person is an entity, and bank accounts can be considered as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ie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database b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5BB5-A49C-451D-BB85-9D7347E01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304920" y="50148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attribut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-numb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describe one particular account in a ban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y form attributes of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-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-stre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-c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describ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ssociation among severa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associate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eac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he 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CCA2-A96F-434B-A373-CEEDA8D92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04920" y="376200"/>
            <a:ext cx="853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all entities of the same type is called a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tity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all relationships of the same type is calle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onship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vera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al structure (schem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database can be expressed graphically by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R diagra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built up from the following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ng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represent entity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ip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represent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87A-E136-439F-B8FD-9AE80210D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80880" y="268200"/>
            <a:ext cx="8382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o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represent relationships among entity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link attributes to entity sets and entity sets to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596880" y="2895480"/>
            <a:ext cx="786132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114800" y="60969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igure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E888-612D-48E0-884F-BA334C150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0880" y="228600"/>
            <a:ext cx="84582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bject-based data models (Object-oriented and Object-rel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data model can be seen as extending the E-R model with notations of encapsulation, methods (functions), and objec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-relational data model combines feature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data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mistructured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structured data models permit the specification of data where individual data items of the same type may have different sets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36E6-C40C-44A3-839D-C64FCF6A3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609480" y="685800"/>
            <a:ext cx="7772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-structu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model is a 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database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where there is no separation between the 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and the 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sch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amount of structure used depends on the 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advantages of this model ar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represent the information of some data sources that cannot be constrained by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a flexible format for data exchange between different types of datab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helpful to view structured data as semi-structured (for browsing purpos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a can easily be c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transfer format may be p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8E8E-1C65-4161-ABD6-FDC2D91B6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04920" y="407880"/>
            <a:ext cx="84582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in contrast with the data models mentioned earlier, where every data item of a particular type must have the same set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sible markup language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widely used to represent semi-structu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twork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 this model is represented by collection of records and relationships among data are connected by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2BD9-A5D0-4854-AC0A-BF82E0B68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457200" y="2971800"/>
            <a:ext cx="82296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erarch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model is same as the network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model records are represented in the form of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722160"/>
          <a:ext cx="6026400" cy="420840"/>
        </p:xfrm>
        <a:graphic>
          <a:graphicData uri="http://schemas.openxmlformats.org/drawingml/2006/table">
            <a:tbl>
              <a:tblPr/>
              <a:tblGrid>
                <a:gridCol w="608040"/>
                <a:gridCol w="951120"/>
                <a:gridCol w="606240"/>
                <a:gridCol w="760320"/>
                <a:gridCol w="527040"/>
                <a:gridCol w="608040"/>
                <a:gridCol w="608040"/>
                <a:gridCol w="135756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ustin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/10/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1" name="AutoShape 2"/>
          <p:cNvCxnSpPr/>
          <p:nvPr/>
        </p:nvCxnSpPr>
        <p:spPr>
          <a:xfrm>
            <a:off x="3753000" y="950400"/>
            <a:ext cx="11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12" name=""/>
          <p:cNvGraphicFramePr/>
          <p:nvPr/>
        </p:nvGraphicFramePr>
        <p:xfrm>
          <a:off x="838080" y="1407960"/>
          <a:ext cx="6035760" cy="420840"/>
        </p:xfrm>
        <a:graphic>
          <a:graphicData uri="http://schemas.openxmlformats.org/drawingml/2006/table">
            <a:tbl>
              <a:tblPr/>
              <a:tblGrid>
                <a:gridCol w="608040"/>
                <a:gridCol w="1017720"/>
                <a:gridCol w="608040"/>
                <a:gridCol w="677880"/>
                <a:gridCol w="608040"/>
                <a:gridCol w="563400"/>
                <a:gridCol w="654120"/>
                <a:gridCol w="129852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ub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/10/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3" name="AutoShape 3"/>
          <p:cNvCxnSpPr/>
          <p:nvPr/>
        </p:nvCxnSpPr>
        <p:spPr>
          <a:xfrm>
            <a:off x="3733560" y="16362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14" name=""/>
          <p:cNvGraphicFramePr/>
          <p:nvPr/>
        </p:nvGraphicFramePr>
        <p:xfrm>
          <a:off x="838080" y="2093760"/>
          <a:ext cx="6012000" cy="420840"/>
        </p:xfrm>
        <a:graphic>
          <a:graphicData uri="http://schemas.openxmlformats.org/drawingml/2006/table">
            <a:tbl>
              <a:tblPr/>
              <a:tblGrid>
                <a:gridCol w="608040"/>
                <a:gridCol w="1073160"/>
                <a:gridCol w="608040"/>
                <a:gridCol w="677880"/>
                <a:gridCol w="608040"/>
                <a:gridCol w="493560"/>
                <a:gridCol w="722520"/>
                <a:gridCol w="122076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oratio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/08/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5" name="AutoShape 4"/>
          <p:cNvCxnSpPr/>
          <p:nvPr/>
        </p:nvCxnSpPr>
        <p:spPr>
          <a:xfrm>
            <a:off x="3809520" y="2322000"/>
            <a:ext cx="10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3395-094A-4F9D-9BE1-9743B0291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352680" y="552600"/>
          <a:ext cx="1384560" cy="304560"/>
        </p:xfrm>
        <a:graphic>
          <a:graphicData uri="http://schemas.openxmlformats.org/drawingml/2006/table">
            <a:tbl>
              <a:tblPr/>
              <a:tblGrid>
                <a:gridCol w="138456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8" name="AutoShape 5"/>
          <p:cNvCxnSpPr/>
          <p:nvPr/>
        </p:nvCxnSpPr>
        <p:spPr>
          <a:xfrm flipH="1">
            <a:off x="3428280" y="857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6"/>
          <p:cNvCxnSpPr/>
          <p:nvPr/>
        </p:nvCxnSpPr>
        <p:spPr>
          <a:xfrm>
            <a:off x="4114800" y="85716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20" name=""/>
          <p:cNvGraphicFramePr/>
          <p:nvPr/>
        </p:nvGraphicFramePr>
        <p:xfrm>
          <a:off x="1235160" y="1274760"/>
          <a:ext cx="6080040" cy="420840"/>
        </p:xfrm>
        <a:graphic>
          <a:graphicData uri="http://schemas.openxmlformats.org/drawingml/2006/table">
            <a:tbl>
              <a:tblPr/>
              <a:tblGrid>
                <a:gridCol w="534960"/>
                <a:gridCol w="950760"/>
                <a:gridCol w="466920"/>
                <a:gridCol w="669960"/>
                <a:gridCol w="401400"/>
                <a:gridCol w="401760"/>
                <a:gridCol w="511200"/>
                <a:gridCol w="1017720"/>
                <a:gridCol w="455400"/>
                <a:gridCol w="66996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ustin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ub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1" name="AutoShape 10"/>
          <p:cNvCxnSpPr/>
          <p:nvPr/>
        </p:nvCxnSpPr>
        <p:spPr>
          <a:xfrm flipH="1">
            <a:off x="2361600" y="1695600"/>
            <a:ext cx="600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5486400" y="169560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23" name=""/>
          <p:cNvGraphicFramePr/>
          <p:nvPr/>
        </p:nvGraphicFramePr>
        <p:xfrm>
          <a:off x="1066680" y="2070000"/>
          <a:ext cx="6172200" cy="420840"/>
        </p:xfrm>
        <a:graphic>
          <a:graphicData uri="http://schemas.openxmlformats.org/drawingml/2006/table">
            <a:tbl>
              <a:tblPr/>
              <a:tblGrid>
                <a:gridCol w="917640"/>
                <a:gridCol w="1400400"/>
                <a:gridCol w="793440"/>
                <a:gridCol w="793800"/>
                <a:gridCol w="881280"/>
                <a:gridCol w="138564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/10/9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/10/9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8"/>
          <p:cNvSpPr/>
          <p:nvPr/>
        </p:nvSpPr>
        <p:spPr>
          <a:xfrm>
            <a:off x="457200" y="2871720"/>
            <a:ext cx="83818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base Langu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system pro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efinition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pecif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anipulation langu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re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queries and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ntrol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a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1997-3C0F-43A8-B5BE-C5B743052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380880" y="196920"/>
            <a:ext cx="838224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actice these are not separate languages; instead they simply form parts of a single database language, such as SQ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-Defini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upport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ables, views and 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 in the SQL language creat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abl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co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ccount-numb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char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la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(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3D24-00B9-4EA1-9ACC-F4B371CC3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457200" y="55404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keep the information on a computer is to store it i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can manipulate the files using application programs, 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o debit or credit an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o add a new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o find the balance of an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o generate monthly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B3F3-3F6F-4925-802F-0518BD56C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304920" y="44928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of the above DDL statement creat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, it updates a special set of tables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dictionary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hat is, data abo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hema of a table is an example of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system consults the data dictionary before reading or modifying actu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72C-B7FE-4198-A709-CF623A147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22860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stored in the database must satisfy certa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DL provides facilities to specify such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base systems check these constraints every time the database is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B9A2-9323-464B-9A45-8D127DFAE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80880" y="345960"/>
            <a:ext cx="83822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-Manipula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ani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information stored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new information in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information from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information stored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manipulation language (DML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anguage that enables users to access or manipul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of 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DM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 a user to specif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is needed 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et tho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3759-727F-4CD2-BCC7-49CD0ED8E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380880" y="196920"/>
            <a:ext cx="84582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ve DM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so referred to 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procedural DM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equire a user to specif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need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how to get tho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query in the SQL language finds the name of the customer whose customer-id is 192-83-74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-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-id = '192-83-7465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-Contro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ubset of SQL controls a database, including administrative privileges and sav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procedur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8159-1ADB-4A33-9339-40D121104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28600" y="304920"/>
            <a:ext cx="861048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base Access from Applic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to interact with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s are usually written in a language, such as C, C++, or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in a banking system are programs that debit accounts, credit accounts, or transfer funds between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cess the database, DML statements need to be executed from the hos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CCDC-1934-4B24-B5E9-7C2B2D104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304920" y="45252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providing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t of procedures) that can be used to send DML and DDL statements to the database, and retrieve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Java Database Connectivity (JDBC) with the Java language is a commonly used application program interface standard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xtending the host language syntax to embed DML calls within the host languag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66E3-2AF9-4618-A377-4BEAAF808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4920" y="525600"/>
            <a:ext cx="8534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Usually, a special character prefaces DML calls, and a preprocessor, called the DM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mpile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 the DML statements to normal procedure calls in the hos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base Users and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who work with a database can be categorized as database users or database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7F2A-A399-4BEF-ACB2-415B59387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304920" y="438120"/>
            <a:ext cx="8534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base Users and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ur different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atabase-system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ferent types of user interf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been designed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ferent type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Naive user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who interact with the system by invoking one of the application programs that have been written prev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ive users are users who do not have knowledge about the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3BF2-E04E-4322-900B-DE74F7692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80880" y="65412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uses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the users can fill in appropriate fields of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1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$50 from accou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cou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has to enter amount of money to be transferred,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count from which the money is to be transferred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count to which the money is to be trans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2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ing account balance over the Internet. user may access a form, where he enters his accoun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2A7E-BBB2-41E8-A2BD-E7094EF1D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304920" y="7632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Application programm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uter professionals who write appli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mers can choose from many tools to develop user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pid Application Development (RA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enable an application programmer to construct forms and reports without writing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th-generation languag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features to facilitate the generation of forms and the display of data on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ost major commercial database systems include a fourth-genera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F993-0664-42CA-BF59-A88453D7C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528480"/>
            <a:ext cx="86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application programs are added to the system as the need a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stores permanent record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fi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it needs diffe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extract records from, and add records to, the appropriat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database management systems came along, usually  information used to store in such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-processing system has a number of major 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FBF1-1E7E-4B95-98AA-582E5ED51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304920" y="20016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ophisticated us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 with the system without writ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hey form their requests in a database query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nalysts who submit queries to expl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 Analytical Processing (OLAP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simplify analysts tasks by letting them view summaries of data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analyst can se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a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or example, North, South, East, and West), or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by a combination of region and product (that is, total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1A3-9051-4B63-8C3D-AED01C5E6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304920" y="3160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ach product in each reg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ining t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elp analysts to find certain kinds of pattern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Specialized user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who write specialized databas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omputer-aided design systems, knowledge-base and expert systems, systems that store data with complex data types (for example, graphics data and audio data), and environment-model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5C17-ED69-4E0B-B139-DDEB85D30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380880" y="306360"/>
            <a:ext cx="83822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who has central control over both the data and the programs that access those data is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dministrator (D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s of a DBA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chema definitio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BA creates the original database schema by executing a set of data definition statements in the D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orage structure and access-method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0AC0-9A0F-4CF1-BD0B-8150FE87F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04920" y="45252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chema and physical-organization modificatio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BA carries out changes to the schema to reflect the changing needs of the organization, or to improve th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ranting of authorization for data acces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granting different types of authorization, the DBA can regulate which parts of the database various users can acc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authorization information is kept in a file that the database system consults whenever someone attempts to access the data 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8A3B-00F5-4373-BF7D-AA5499FAE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304920" y="32400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outine mainten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ivitie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eriodic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king up the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ither onto tapes or onto remote servers, to prevent loss of data in case of disasters such as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suring that enoug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ee disk 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vailable for normal operations, and upgrading disk space a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itoring jo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nning on the database and ensuring that performance is not degraded by very expensive tasks submitted by som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E45-EBBE-4467-A438-4DF9EE1E4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304920" y="338040"/>
            <a:ext cx="8534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ac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ac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 a collection of operations that performs a single logical function in a databas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s transfer in which one account (s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bited and another account (s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r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essential that either both the credit and debit occur, or that neither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all operations of the transaction are reflected properly in the database, or none are. This requirement i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B5F9-F843-45AB-8EFC-A18BD7A31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304920" y="5284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of the funds transfer must preserve the consistency of the database. That is, the value of the     s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preserved. This requirement i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ransaction is unaware of other transactions executing concurrently 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successful execution of a funds transfer, the new values of ac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persist, despite the possibility of system failure. This requirement i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DB46-4DD0-4EC2-ADD8-C6F970DEF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304920" y="15228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quire that transactions do not violate any database-consistenc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, if the database was consistent when a transaction started, the database must be consistent when the transaction successfully ter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programmer’s responsibility to define properly the various transactions, so that each preserve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s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transaction to transfer funds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defined to be composed of two separate programs: one that debits accou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nother that credits accou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9B5E-9C26-46C7-AC26-662C7DB4A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304920" y="30492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ecution of these two programs one after the other will indeed preserve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omi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r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ties is the responsibility of the database system itself—specifically,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-management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are to ensure the atomicity property, a failed transaction must have no effect on the stat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database must be restored to the state that existed prior to the starting of the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82ED-9143-43CC-868A-97664A057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304920" y="27000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system must therefore perfor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ilure reco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, detect system failures and restore the database to the state that existed prior to the occurrence of th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when several transactions update the database concurrently, the consistency of data may no longer be preserved, even though each individual transac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responsibility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-control manag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tr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action among the concurrent transactions, to ensure the consistency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ach transaction posse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64F4-95CD-43A5-BD7E-43733C122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8600" y="228600"/>
            <a:ext cx="86104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dundancy and in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ultiple file formats, duplication of information in different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ample: Savings account and Curre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y in accessing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to write a new program to carry out each new t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ample: when new query is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ultiple files and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alues in the database must satisf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ard to add new constraints or change existing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D420-B472-40BF-A1C5-B37E12F48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380880" y="228600"/>
            <a:ext cx="84582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base Syste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nctional compon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database system can be broadly divided into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orage manage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ry process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 manag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portant because databases typically require a large amount of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databases range in size from hundreds of gigabytes to, for the largest databases, terabyt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igabyte is 1000 megabytes and a terabyte is 1000 giga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B73-3C79-4AEB-AFFB-6D844532B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304920" y="37620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main memory of computers cannot store this much information, so this information is stored on d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moved between disk storage and main memory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process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portant because it helps the database system simplify and facilitate acces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views help to achieve thi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ob of the database system is to translate queries written in a non procedural language, into an efficient sequence of operations at the phys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F405-86F2-48F8-9BC0-97383BCCF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410080" y="6324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 1.4 DBM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21BE-C1EB-4682-8683-3A7936E3B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04920" y="380880"/>
            <a:ext cx="84582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 manag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dule that provide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he low-level data stored in the database and the application programs and queries submitted to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orage manager is responsible for the interaction with the fil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w data is stored on the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orage manager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storing, retrieving, and updating data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2DFE-9454-4450-9087-FB417B574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304920" y="38088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orage manager componen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uthorization and integrity 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tests for the satisfaction of integrity constraints and checks the authority of users to acces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ransaction 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ensures that the database remains in a consistent (correct) state despite system failures, and that concurrent transaction executions proceed without confli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ile 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manages the allocation of space on disk storage and the data structures used to represent information stored on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02B0-E4DF-4BF6-A26A-87D685903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304920" y="15228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uffer 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responsible for fetching data from disk storage into main memory, and deciding what data to cache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orage manager implements several data structures as part of the physical system imple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ta fi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store the databas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stores metadata about the structure of the database, in particular the schema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provide fast access to data items that hold particula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94D0-C6D2-4D16-A999-6E191714D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304920" y="338040"/>
            <a:ext cx="8534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Query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ery processor component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DL interpre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nterprets DDL statements and records the definitions in the data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L compi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translates DML statements in a query language into an evaluation plan consisting of low-level instructions that the query evaluation engine underst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A query can usually be translated into any of a number of alternative evaluation plans that all give the same res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C38F-620E-4366-A4F1-2B60B13FB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380880" y="3049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DML compiler also perform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optim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is, it picks the lowest cost evaluation plan from among th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Query evaluation eng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executes low-level instructions generated by the DM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28600" y="38088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story of Databa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s for data storage and processing have evolved over the ye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s and early 1960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gnetic tap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developed for da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tasks such as payroll were automated, with data stored on tapes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 of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st of reading data from one or more tapes and writing data to a new t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FACB-58B6-4AFB-A817-BAA30800E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304920" y="7632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uld also be input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nched card dec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output to pr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ary raises were processed by entering the raises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ched car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eading the punched card deck in synchronization with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ing the master salary details; The records had to be in the same sorted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lary raises would be added to the salary read from the master tape, and written to a new tape; the new tape would become the new master 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izes were much larger tha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apes on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access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0470-1804-4611-B91F-E3896C67D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C49-A39B-498F-827F-B4DE1A994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68120"/>
            <a:ext cx="84582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icity of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s may leave database in an inconsistent state with partial updates carried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ample: Transfer of funds from one account to another should either complete or not happen at all (atom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 access by multipl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 access needed for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ncontrolled concurrent accesses can lead to inconsist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ample: Two people reading a balance and updating account at the sam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provide user access to some, but not all, d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380880" y="380880"/>
            <a:ext cx="8382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1960s and 1970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rd dis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late 1960s changed the scenario for data processing greatly, since hard disks allowed direct acces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 any location on disk could be accessed in just tens of milli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ard disk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access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erarchical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ld be created that allowed data structures such as lists and trees to be stored on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A8AC-B00F-4463-B6CF-58AD06464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304920" y="30492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could construct and manipulate these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70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onal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re 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0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al model was not used in practice initially, because of its performance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databases could not match the performance of existing network and hierarchical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151-1D64-4BC5-971E-4C1D2F5ED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80880" y="380880"/>
            <a:ext cx="8382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Company developed techniques for the construction of an efficie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onal datab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arly 1980s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onal datab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d become competitive with network and hierarchical database systems even in the area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databas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so easy to use that they eventually replac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/hierarchical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1980s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onal mod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reigned supreme among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8308-598C-4125-9385-D0B3ED94E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228600" y="304920"/>
            <a:ext cx="8610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1980s also saw much research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ed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well as initial work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ject-oriented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1990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QL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designed for transaction processing applications of databases 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ing emerged as a major application area for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for analyzing large amounts of data saw large growths in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FEB-2E93-40D8-913B-3BE1BA68B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38B8-831B-46A9-8007-EEAE86E86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35244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database vendors introduc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llel database prod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vendors also began to ad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ct-relational sup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ir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1990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event was the explosive growth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rldWide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systems also had to suppor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eb interfac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380880" y="30492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 we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ch more extensively than ever 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systems now had to support very high transaction processing rates, as well as very high reliability and 24×7 availability (availability 24 hours a day, 7 days a week, meaning no downtime for scheduled maintenance 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0784-8430-4401-813B-F76A2A5DA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304920" y="22860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pro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divided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x ste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ER model is most relevant to the first three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Requirements Analy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step in designing a database application is to underst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o be stored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ust find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users want from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usually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pro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239-B3FD-4A53-94B8-4284B696D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9A24-A7B5-443E-9338-D4A0B6DDF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04920" y="30492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at involv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us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user group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ud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urrent operating environment and how it is expect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ny available documentation on existing applications that are expected to be repl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thodolog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been proposed for organizing and presenting the information gathered in this step, and so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mated t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been developed to support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380880" y="152280"/>
            <a:ext cx="8382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Conceptual Database Desig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gathered in the requirements analysis step is used to develop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-level de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data to be stored in the database, along wi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re known to hold over thi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ep is often carried out us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a similar high-leve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Logical Database Desig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ust choose a DBMS to implement our database design,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v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onceptual database design in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data model of the chosen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C78-8BD7-463A-90EB-A1F2151E3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80880" y="349200"/>
            <a:ext cx="8382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 in the logical design step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v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onal database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is a conceptual schema, sometimes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the relationa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yond 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R diagram is description of the data, constructed through the information collected during requirement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re careful analysis can often refine the logical schema obtained at the end of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0453-54DE-4FCF-82C9-CF18EE925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5D6F-BC3B-49D9-9CD8-C895444BE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304920" y="304920"/>
            <a:ext cx="86104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systems offer solu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ll the above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ew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jor purpose of a database system is to provide users with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w of the data. That is the system hides certain details of how the data is stored and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ystem to be usable, it must retrieve data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fficiency designers use complex data structures to represent data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380880" y="152280"/>
            <a:ext cx="8382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we have a good logical schema, we must consid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formance cri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esig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ysical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we must add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urity iss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nsure that users are able to access the data they need, but not data that we wish to hide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aining three steps of database design are briefly described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Schema Refin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th step in database design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ollection of relations in our relational database schema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tential problems, and to refin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BF75-4AE4-409A-BC50-4E540416F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EB88-A865-464A-9A05-C1EC5872F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04920" y="30492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 can be refined us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Physical Database Desig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tep we must consider typical expected workloads that our database must support and furth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f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atabase design to ensure that it meets desired perform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380880" y="376200"/>
            <a:ext cx="8382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ep may simply invol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ilding inde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some tables and clustering some tables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ay involv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parts of the database schema obtained from the earlier design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Security Desig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ferent user groups and different roles played by various users (e.g., the development team for a product, the customer support representatives, the product mana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1FF-4DE6-4F39-BB93-5C4FDA48C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304920" y="45720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role and user group, we mu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fy the parts of the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they must be able to access and the parts of the database that they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llowed to access, and take steps to ensure that they can access only the necessary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database design will probably require a subsequ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ing ph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all six kinds of design steps are interleaved and repeated until the design is satis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CD32-AF20-446B-8733-C6EE3FE93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80880" y="38088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TITIES, ATTRIBUTES, AND ENTITY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object in the real world that is  distinguishable from oth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toy, the toy department, the manager of the toy department, the home address of the manager of the toy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se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llection of similar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 define an entity set called Employees that contains employe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28A-8163-4616-B3BF-E2DF552AD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304920" y="380880"/>
            <a:ext cx="8534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ntity is described using a se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tities in a given entity set have the sam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Employees entity set could use name, social security number (ssn), and parking lot (lot) as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attribute associated with an entity set, we must identif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ossib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domain associated with the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mployees might be the set of 20-character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703-7A09-4E34-8651-C540A648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304920" y="37620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nother example, if the company rates employees on a scale of 1 to 10 and stores ratings in a field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associated domain consists of integers 1 through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, for each entity set, we choos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inimal set of attributes whose values uniquely identify an entity in th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could be more than 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; if so, we designate one of them a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17C-2ED4-4CA2-ACCC-87BF711D0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304920" y="380880"/>
            <a:ext cx="853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loyees entity set with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, nam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hown in Figure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ntity set is represented by a rectangle, and an attribute is represented by an 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ttribute in the primary key is underl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F3CD-3000-4087-88AA-43AD4E088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6705720" cy="28958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152280" y="308916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TIONSHIPS AND RELATIONSHIP 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association among two or mor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may have the relationship that John works in the pharmacy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483-C806-4F4D-8E3F-548A24312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152280" y="380880"/>
            <a:ext cx="88394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ith entities, we may wish to collect a set of similar relationships in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onship set can be thought of as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-tuple denotes a relationship involving n entitie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entity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n entity s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.2 shows the relationship set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, in which each relationship indicates a department in which an employe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38080" y="2170080"/>
            <a:ext cx="6934320" cy="64944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500E-3EC9-47C5-8E98-D7EEECAD2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7E1C-0021-473C-9B09-B1D6392C7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380880" y="344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hide the complexity from users through several levels of abstraction, to simplify users interactions with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457200" y="1981080"/>
            <a:ext cx="8305920" cy="3935520"/>
            <a:chOff x="457200" y="1981080"/>
            <a:chExt cx="8305920" cy="3935520"/>
          </a:xfrm>
        </p:grpSpPr>
        <p:sp>
          <p:nvSpPr>
            <p:cNvPr id="58" name="AutoShape 14"/>
            <p:cNvSpPr/>
            <p:nvPr/>
          </p:nvSpPr>
          <p:spPr>
            <a:xfrm>
              <a:off x="457200" y="1981080"/>
              <a:ext cx="83059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5"/>
            <p:cNvSpPr/>
            <p:nvPr/>
          </p:nvSpPr>
          <p:spPr>
            <a:xfrm>
              <a:off x="613800" y="2150280"/>
              <a:ext cx="7931160" cy="13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 le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                  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.         .    . 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Calibri"/>
                </a:rPr>
                <a:t>.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.  .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817200" y="2668680"/>
              <a:ext cx="2151720" cy="53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3180600" y="2639520"/>
              <a:ext cx="2152080" cy="56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6271560" y="2624040"/>
              <a:ext cx="215208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2988720" y="3829320"/>
              <a:ext cx="3184920" cy="58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ical le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2990520" y="4810680"/>
              <a:ext cx="31849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ysical le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AutoShape 21"/>
            <p:cNvCxnSpPr>
              <a:stCxn id="59" idx="2"/>
              <a:endCxn id="63" idx="0"/>
            </p:cNvCxnSpPr>
            <p:nvPr/>
          </p:nvCxnSpPr>
          <p:spPr>
            <a:xfrm>
              <a:off x="4579200" y="3466080"/>
              <a:ext cx="2520" cy="36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22"/>
            <p:cNvCxnSpPr>
              <a:stCxn id="63" idx="2"/>
              <a:endCxn id="64" idx="0"/>
            </p:cNvCxnSpPr>
            <p:nvPr/>
          </p:nvCxnSpPr>
          <p:spPr>
            <a:xfrm>
              <a:off x="4581360" y="4411080"/>
              <a:ext cx="2160" cy="40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" name="Text Box 23"/>
            <p:cNvSpPr/>
            <p:nvPr/>
          </p:nvSpPr>
          <p:spPr>
            <a:xfrm>
              <a:off x="457200" y="5481360"/>
              <a:ext cx="8305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gure 1.1 The three levels of data abst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4520" y="533520"/>
            <a:ext cx="8974080" cy="3352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228600" y="407844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could also have a Manages relationship set involving Employees and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onship can also 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v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5F54-76D2-45E2-A868-851524348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152280" y="17316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ve attributes are used to record information about the relationship, rather than about any one of the participating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may wish to record that John works in the pharmacy department as of January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formation is captured in Figure 2.2 By adding an attribut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onship must be uniquely identified by the participating entities, without reference to the descriptiv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D45B-8A4B-4199-BB73-61394B998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52280" y="37296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lationship set, for example, each Works_In relationship must be uniquely identified by the combination of employ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part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relationship set is a set of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can be thought of as a 'snapshot' of the relationship set at some insta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of the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lationship set is shown in Figure 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2C03-5732-41E0-AB5D-1E513EFDA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280" y="396720"/>
            <a:ext cx="8763120" cy="562320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75E9-BBC5-46FB-B2BB-63F562A85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52280" y="152280"/>
            <a:ext cx="883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nother example of an ER diagram, suppose that each department has offices in several locations and we want to record the locations at which each employe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lationship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na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we must record an association between an employee, a department, and a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R diagram for this variant of Works_In, which we call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2, is shown in Figure 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19F0-211D-44C6-A9A1-58FE26D75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23840" y="1295280"/>
            <a:ext cx="8891640" cy="419112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437A-88C1-438F-A55D-A29A4E663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52280" y="-52560"/>
            <a:ext cx="8839440" cy="71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ty sets that participate in a relationship set need not be dis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a relationship might involve two entities in the same entit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consider the Repor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ationship set that is shown in Figure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employees report to other employees, every relationship in Repor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em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entities in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y play differ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 to the managing employe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reflected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 indic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ervisor and subordinate in Figure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CD50-D8DC-49F4-A891-05994A87A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143000" y="82440"/>
            <a:ext cx="6019920" cy="47944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228600" y="48006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entity set plays more than one role, the role indicator concatenated with an attribute name from the entity set gives us a unique name for each attribute in the relationship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25E4-8C79-495C-99C5-0EC73C46C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152280" y="15228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Repor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ationship set has attributes corresponding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upervis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ubordinate, and the names of these attributes a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ervisor_ss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ordinate_s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CF1D-1290-47FB-9EA2-24C78E6EC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152280" y="152280"/>
            <a:ext cx="883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ITIONAL  FEATURES OF THE 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ey 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relationship set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n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he Employees and Departments entity sets such that each department has at most one manager, although a single employee is allowed to manage more than one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triction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ach department has at most one manager is an example of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striction is indicated in the ER diagram of Figure 2.6 by using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Departments to Man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495B-D4F1-4A06-8F27-A4338827A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9061-D9BF-4C7D-AC48-63A8058CE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80880" y="585720"/>
            <a:ext cx="84582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ysic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st level of abstraction describ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ata is actually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evel describes complex low-level data structures in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gica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xt-higher level of abstraction describ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is stored in the database, and what relationships exist among tho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52280" y="371520"/>
            <a:ext cx="8839440" cy="3971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152280" y="45594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of the Manages relationship set is shown in Figure 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88D2-8AA5-47C3-960D-74F3783FE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10552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C748-D0BE-43B7-B7A0-ECF7A3D52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42552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onship set li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n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imes said to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to-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, the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lationship set is said to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-to-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add the restriction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ach employee can manage at most one depar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Manages relationship set, which would be indicat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ding an arrow from Employees to Man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Figure 2.6, we hav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to-o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C57C-4CDA-49F8-9D0E-82DADE994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52280" y="38088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ey Constraints for Ternar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dicate a key constraint on entity set E in relationship set R, we draw an arrow from E to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igure 2.8, we show a ternary relationship with ke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key constraint specifies that, ea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ployee works in at most one department, and at a singl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0D03-8A63-404B-8012-F350ECFE2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434340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4168-6353-48D3-9D8F-97F16541A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52280" y="152280"/>
            <a:ext cx="883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of the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3 relationship set is shown in Figure 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each department can be associated with several employees and locations, and each location can be associated with several departments and employees; howeve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ach employee is associated with a single department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7B4-3B1C-4F43-95D8-645B7E941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001000" cy="5967360"/>
          </a:xfrm>
          <a:prstGeom prst="rect">
            <a:avLst/>
          </a:prstGeom>
          <a:ln w="0">
            <a:noFill/>
          </a:ln>
        </p:spPr>
      </p:pic>
      <p:sp>
        <p:nvSpPr>
          <p:cNvPr id="26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340-C96E-474B-B937-A32606406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52280" y="20016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ticipation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department is required to have a manager. This requirement is an example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icipation of the entity se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art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relationship set Manages (Fig 2.7) is said to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cipation that is not total is said to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n example, the participation of the entity se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ploye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anages (Fig 2.7)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ce not every employee gets to manage a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166D-DE50-4181-98BA-B79E5B7E8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52280" y="15228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lationship set (Fig 2.3), the participation of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ploye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art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R diagram in Figure 2.10 shows both the Manages and Wor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lationship sets and all the given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articipation of an entity set in a relationship set is total, the two are connected by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ick 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nce of an arrow indicates a ke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7077-0C85-4AD0-964C-1D1B30B25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66160" cy="59436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BD4A-6E46-4B45-B10E-93A3997DC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06:37:22Z</dcterms:created>
  <dc:creator>snist</dc:creator>
  <dc:description/>
  <dc:language>en-US</dc:language>
  <cp:lastModifiedBy>IT-Staff001</cp:lastModifiedBy>
  <dcterms:modified xsi:type="dcterms:W3CDTF">2018-07-05T04:57:04Z</dcterms:modified>
  <cp:revision>467</cp:revision>
  <dc:subject/>
  <dc:title>Slide 1</dc:title>
</cp:coreProperties>
</file>